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10.png" ContentType="image/png"/>
  <Override PartName="/ppt/media/image23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5B12-DC41-4DED-A8E0-CD5B8B1E3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tic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% of the continent                      is ice f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 Hair gr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verw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 lic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lie pengu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inches tall, 12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ddell seals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up to 18 yea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Pet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14-2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1-6” in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p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biggest icebergs ever (possibly the biggest iceberg ever) broke free from the Ross ice shelf in Antarctica in 2000. {183 miles long and 23 miles wide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stuff par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rgest land animal in Antarctica is an insect, a wingless midge, Belgica antarctica, less than 1.3cm (0.5in) lo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rritorial Water Cla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 Amundsen-Scott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 Maitri Ind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 Novolazarevskaya 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*Marion Island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 Syowa Jap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 Molodezhnaya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 *Alfred Faure, Iles Crozet Fr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 Mawson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 *Port aux Français, Iles Kerguelen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 Zhongshan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 Progress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 *Martin de Viviès, Ile Amsterdam F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Davis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 Mirny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 Vostok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 Casey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 Dumont d’Urville Fr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8 *Macquarie Island Austral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McMurdo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 Scott Base New Zea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 Rothera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 San Martin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 Vernadsky Ukrain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4 Palmer United States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 Capitan Arturo Prat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6 +Presidente Eduardo Frei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7 +Escudero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8 +Great Wall Ch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9 +Bellingshausen Russi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0 +Artigas Urugua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1 +King Sejong Kor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2 +Jubany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 +Arctowski Poland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 +Comandante Ferraz Brazi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 General Bernardo O’Higgins Chil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6 Esperanza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7 Marambio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8 Orcadas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9 *Bird Island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 *King Edward Point United Kingdom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1 Belgrano II Argentin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2 Halley Unit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3 *Gough Island South Afr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4 Neumayer Germany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5 SANAE South Afric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6 Troll, 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7 Concordia, France/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ations north of 60°S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arctic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mundsen-Scot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19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#2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undsen-Scott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l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cMur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2A33-A31D-4E78-9F77-165703AA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8A1-849D-4D05-8881-9CA02A8F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BDD-3155-4FF0-910B-CD922A7C9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DB7-A160-488D-B463-381D7B7A7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B09D-DA11-42E8-AF3B-EE275A2A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F5BD-7D74-486D-B224-EE89D47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D7D2-4C15-4A18-A420-5F2E860E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7C15-7713-4F96-B27F-312DE4CF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CF74-1FF3-4151-8220-2ADC30D6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D90F-D25A-47CC-96B8-242AD6D0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F0CF-91E1-497E-B7F7-C41FCCBE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E657-66F1-483E-843B-87AD2C40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3FC4-41E8-48C9-BF3F-083A6A6D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259A-EFA5-4BE6-A9EE-3C84911A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55AF-D2D2-494F-B067-2608AF57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2E79-9A48-4AAE-838A-EB7CC476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584B-83E8-4ABE-866F-23A56BB6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EF7-0739-40A6-941D-978DB2D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136-E619-4940-9FC4-C03F7A65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94A5-C094-4C93-A0C0-6EF443D5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882-701A-4442-8BC5-608B8A39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8399-1C24-4E8F-B645-EB4FF644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BA13-EA94-49A9-8844-F449BE91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D120-FEAA-4A70-BBD2-FED56828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E6BB-305C-4734-89F7-7C2F7B0A8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A95E-A4A0-45AC-891C-E1FFF51E6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685800"/>
            <a:ext cx="4800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a</a:t>
            </a:r>
            <a:br>
              <a:rPr sz="4400"/>
            </a:b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he Continent Ser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5943240"/>
            <a:ext cx="4114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Magnetic South Po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038840" cy="4038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609480" y="1366920"/>
            <a:ext cx="28958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105520" cy="435924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21" name="Text Box 5"/>
          <p:cNvSpPr/>
          <p:nvPr/>
        </p:nvSpPr>
        <p:spPr>
          <a:xfrm>
            <a:off x="1433160" y="12708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hysical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Plant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3429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2% of the continent                      is ice f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antarctic grass"/>
          <p:cNvPicPr/>
          <p:nvPr/>
        </p:nvPicPr>
        <p:blipFill>
          <a:blip r:embed="rId1"/>
          <a:stretch/>
        </p:blipFill>
        <p:spPr>
          <a:xfrm>
            <a:off x="5486400" y="3886200"/>
            <a:ext cx="1119240" cy="1676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native%20antarctic%20foliage"/>
          <p:cNvPicPr/>
          <p:nvPr/>
        </p:nvPicPr>
        <p:blipFill>
          <a:blip r:embed="rId2"/>
          <a:stretch/>
        </p:blipFill>
        <p:spPr>
          <a:xfrm>
            <a:off x="3657600" y="243828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0"/>
          <p:cNvSpPr/>
          <p:nvPr/>
        </p:nvSpPr>
        <p:spPr>
          <a:xfrm>
            <a:off x="5489280" y="297180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30 m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16440" y="498960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rtic Hair 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Frullania_pycnantha,I_MVK1"/>
          <p:cNvPicPr/>
          <p:nvPr/>
        </p:nvPicPr>
        <p:blipFill>
          <a:blip r:embed="rId3"/>
          <a:stretch/>
        </p:blipFill>
        <p:spPr>
          <a:xfrm>
            <a:off x="457200" y="3348000"/>
            <a:ext cx="1905120" cy="12621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4"/>
          <p:cNvSpPr/>
          <p:nvPr/>
        </p:nvSpPr>
        <p:spPr>
          <a:xfrm>
            <a:off x="2347200" y="4195800"/>
            <a:ext cx="17226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ne liverw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6" descr="210px-Lichen_squamulose"/>
          <p:cNvPicPr/>
          <p:nvPr/>
        </p:nvPicPr>
        <p:blipFill>
          <a:blip r:embed="rId4"/>
          <a:stretch/>
        </p:blipFill>
        <p:spPr>
          <a:xfrm>
            <a:off x="4267080" y="380880"/>
            <a:ext cx="2000520" cy="18097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7"/>
          <p:cNvSpPr/>
          <p:nvPr/>
        </p:nvSpPr>
        <p:spPr>
          <a:xfrm>
            <a:off x="6539040" y="1865160"/>
            <a:ext cx="14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150 lich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imal Lif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adelie_fact"/>
          <p:cNvPicPr/>
          <p:nvPr/>
        </p:nvPicPr>
        <p:blipFill>
          <a:blip r:embed="rId1"/>
          <a:stretch/>
        </p:blipFill>
        <p:spPr>
          <a:xfrm>
            <a:off x="838080" y="1600200"/>
            <a:ext cx="2362320" cy="1571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990720" y="3276720"/>
            <a:ext cx="2889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delie pengu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20 inches tall, 12 po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6040" y="319680"/>
            <a:ext cx="2325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Weddell seals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333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up to 18 yea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Weddell_seal_WEB"/>
          <p:cNvPicPr/>
          <p:nvPr/>
        </p:nvPicPr>
        <p:blipFill>
          <a:blip r:embed="rId2"/>
          <a:stretch/>
        </p:blipFill>
        <p:spPr>
          <a:xfrm>
            <a:off x="4572000" y="990720"/>
            <a:ext cx="2381400" cy="153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krill_fact"/>
          <p:cNvPicPr/>
          <p:nvPr/>
        </p:nvPicPr>
        <p:blipFill>
          <a:blip r:embed="rId3"/>
          <a:stretch/>
        </p:blipFill>
        <p:spPr>
          <a:xfrm>
            <a:off x="3886200" y="3352680"/>
            <a:ext cx="1895400" cy="14004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6327720" y="5836320"/>
            <a:ext cx="1942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now Pe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ive 14-2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4" descr="Snow_petrel_pose2"/>
          <p:cNvPicPr/>
          <p:nvPr/>
        </p:nvPicPr>
        <p:blipFill>
          <a:blip r:embed="rId4"/>
          <a:stretch/>
        </p:blipFill>
        <p:spPr>
          <a:xfrm>
            <a:off x="6477120" y="4495680"/>
            <a:ext cx="2057400" cy="1374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5"/>
          <p:cNvSpPr/>
          <p:nvPr/>
        </p:nvSpPr>
        <p:spPr>
          <a:xfrm>
            <a:off x="3505680" y="4799520"/>
            <a:ext cx="2646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Kri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y are 1-6” i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7" descr="Killer whale or Orca looking around having broken thin ice for a breathing hole, picture courtesy NOAA"/>
          <p:cNvPicPr/>
          <p:nvPr/>
        </p:nvPicPr>
        <p:blipFill>
          <a:blip r:embed="rId5"/>
          <a:stretch/>
        </p:blipFill>
        <p:spPr>
          <a:xfrm>
            <a:off x="6095880" y="2895480"/>
            <a:ext cx="1752840" cy="1098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8"/>
          <p:cNvSpPr/>
          <p:nvPr/>
        </p:nvSpPr>
        <p:spPr>
          <a:xfrm>
            <a:off x="7848720" y="1905120"/>
            <a:ext cx="1679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Humpba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in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Sp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the_end"/>
          <p:cNvPicPr/>
          <p:nvPr/>
        </p:nvPicPr>
        <p:blipFill>
          <a:blip r:embed="rId1"/>
          <a:srcRect l="12877" t="2408" r="0" b="3739"/>
          <a:stretch/>
        </p:blipFill>
        <p:spPr>
          <a:xfrm>
            <a:off x="2743200" y="990720"/>
            <a:ext cx="5029200" cy="414000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Satellite view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satellite-image-of-antarctica"/>
          <p:cNvPicPr/>
          <p:nvPr/>
        </p:nvPicPr>
        <p:blipFill>
          <a:blip r:embed="rId1"/>
          <a:stretch/>
        </p:blipFill>
        <p:spPr>
          <a:xfrm>
            <a:off x="3200400" y="18288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world image"/>
          <p:cNvPicPr/>
          <p:nvPr/>
        </p:nvPicPr>
        <p:blipFill>
          <a:blip r:embed="rId1"/>
          <a:stretch/>
        </p:blipFill>
        <p:spPr>
          <a:xfrm>
            <a:off x="2590920" y="213372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f Antarctica's ice sheets melted, the worlds oceans would rise by 60 to 65 metres (200 - 210ft)  - everyw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Antarctica is the best place in the world to find meteorites. Dark meteorites show up against the white expanse of ice and snow and don't get covered by vege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e of the biggest icebergs ever (possibly the biggest iceberg ever) </a:t>
            </a: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broke free from the Ross ice shelf in Antarctica in 2000. {183 miles long and 23 miles wide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Interesting stuff part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It has been estimated that during the feeding season in Antarctica, a full grown blue whale eats about 4 million krill per day (krill are small shrimp-like creatures), that's 4 tons - every day for 6 months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owest ever temperature recorded was at the Russian Vostok station. It was - 89.6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The largest land animal in Antarctica is an insect, a wingless midge, </a:t>
            </a:r>
            <a:r>
              <a:rPr b="1" i="1" lang="en-US" sz="2400" spc="-1" strike="noStrike">
                <a:solidFill>
                  <a:srgbClr val="3333ff"/>
                </a:solidFill>
                <a:latin typeface="Arial"/>
              </a:rPr>
              <a:t>Belgica antarctica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, less than 1.3cm (0.5in) lo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9" descr="Antarctic Midge"/>
          <p:cNvPicPr/>
          <p:nvPr/>
        </p:nvPicPr>
        <p:blipFill>
          <a:blip r:embed="rId1"/>
          <a:stretch/>
        </p:blipFill>
        <p:spPr>
          <a:xfrm>
            <a:off x="3581280" y="5715000"/>
            <a:ext cx="457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Territories"/>
          <p:cNvPicPr/>
          <p:nvPr/>
        </p:nvPicPr>
        <p:blipFill>
          <a:blip r:embed="rId1"/>
          <a:stretch/>
        </p:blipFill>
        <p:spPr>
          <a:xfrm>
            <a:off x="3276720" y="1295280"/>
            <a:ext cx="4572000" cy="45421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592560" y="127080"/>
            <a:ext cx="67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Territorial Water Clai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01"/>
          <p:cNvSpPr/>
          <p:nvPr/>
        </p:nvSpPr>
        <p:spPr>
          <a:xfrm>
            <a:off x="6858000" y="228600"/>
            <a:ext cx="205740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Amundsen-Scott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 Maitri Ind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 Novolazarevskaya Russ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 *Marion Island South Af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5 Syowa Jap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6 Molodezhnaya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 *Alfred Faure, Iles Crozet Franc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8 Mawson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9 *Port aux Français, Iles Kerguelen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0 Zhongshan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1 Progress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2 *Martin de Viviès, Ile Amsterdam Franc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3 Davis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4 Mirny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5 Vostok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 Casey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7 Dumont d’Urville Franc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8 *Macquarie Island Austral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9 McMurdo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 Scott Base New Zea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1 Rothera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2 San Martin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 Vernadsky Ukrain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4 Palmer United State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5 Capitan Arturo Prat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6 +Presidente Eduardo Frei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7 +Escudero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8 +Great Wall Ch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9 +Bellingshausen Russi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0 +Artigas Urugua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1 +King Sejong Kore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2 +Jubany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3 +Arctowski Poland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4 +Comandante Ferraz Brazil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5 General Bernardo O’Higgins Chile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6 Esperanza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7 Marambio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8 Orcadas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39 *Bird Island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0 *King Edward Point United Kingdom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1 Belgrano II Argentin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2 Halley United Kingdom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3 *Gough Island South Afr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4 Neumayer Germany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5 SANAE South Africa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6 Troll, Norw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7 Concordia, France/Ita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*Stations north of 60°S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84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4114800" cy="35146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Antarctic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6"/>
          <p:cNvSpPr/>
          <p:nvPr/>
        </p:nvSpPr>
        <p:spPr>
          <a:xfrm>
            <a:off x="3125520" y="5108400"/>
            <a:ext cx="370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 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Amundsen-Scot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19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#24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81280" cy="23875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USA B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4343400" y="3657600"/>
            <a:ext cx="4267080" cy="284796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pic>
        <p:nvPicPr>
          <p:cNvPr id="111" name="Picture 9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5105520" cy="94932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  <p:sp>
        <p:nvSpPr>
          <p:cNvPr id="112" name="Text Box 10"/>
          <p:cNvSpPr/>
          <p:nvPr/>
        </p:nvSpPr>
        <p:spPr>
          <a:xfrm>
            <a:off x="162360" y="3813120"/>
            <a:ext cx="38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Amundsen-Scott South P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437600" y="25178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ffff"/>
                </a:solidFill>
                <a:latin typeface="Times New Roman"/>
              </a:rPr>
              <a:t>Pal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7112880" y="594684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cMu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Ge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96240" cy="2909880"/>
          </a:xfrm>
          <a:prstGeom prst="rect">
            <a:avLst/>
          </a:prstGeom>
          <a:ln w="9360">
            <a:solidFill>
              <a:srgbClr val="5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14:26Z</dcterms:created>
  <dc:creator>Mr. Clutter</dc:creator>
  <dc:description/>
  <dc:language>en-US</dc:language>
  <cp:lastModifiedBy>RomaK</cp:lastModifiedBy>
  <dcterms:modified xsi:type="dcterms:W3CDTF">2015-09-04T09:40:11Z</dcterms:modified>
  <cp:revision>26</cp:revision>
  <dc:subject/>
  <dc:title>Antartica the continent</dc:title>
</cp:coreProperties>
</file>